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6BB9-CA30-4CDC-AADD-A555A10E65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A22-333E-48F8-8CA5-C5ABEC4D15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19F-9544-4F4C-A88F-A9C9387DA6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C160-8705-4379-BE27-77EBCB80A24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C259-0199-40FA-8297-F69F5C06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CA6-79CC-4ED2-AE2F-B4C8BA3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0F4-F9F9-4057-9447-865B25D4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D6B-A474-4339-A4B5-F55038B2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781-AEA2-4C7A-A783-00F7F71A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30A5-01DB-49EF-B40A-FA9C1D00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B16-5249-4617-8B1C-A97C300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971F-76E1-4D7C-AF01-38A1406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B8C2-8766-4059-8840-D6C1FE2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FE9E-E353-476A-91FB-FDB36EA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8B0A-115C-49C7-83E4-24D63F0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D4C-698F-4CEB-89F5-6D73189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FC1-CE33-4869-9302-D1EA2FB2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14B-089F-453F-8359-F523ACAF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4A4-32CA-4631-8C3F-08423AB2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343-EF71-48CD-B67E-0ADF2DFB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7C4D-5225-46A7-BDE1-CA377C5C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D802-F463-4045-97B1-17AD2F7B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5BDB-99E0-42C5-8F14-53A10424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E391-6A32-4E05-BD7B-619AE06D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DE59-7157-4B22-9226-594BEBF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DF7B-E8B4-4B1C-99EB-1B0881A9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80B-7425-46EC-8FC6-8C522CE9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9867-AD1D-42AD-A8A9-0BBA3ECC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384F-C63E-4C7A-BDC9-99C422BB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3601-BD70-4A87-B1F2-EEED6C3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667D6-28FF-45B4-A2DD-A19338E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FF58-7D45-45F4-BB5F-8BE7DA8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06D2-3390-4665-823E-4ADEF711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9280-6167-4898-9851-1932D429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05D1-565E-4661-B50B-4A99B576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2F66-F786-4C9E-A767-CEF9C5B2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48BE-2443-457B-B8A8-B0C159E6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3EC-27AE-4B9A-9025-82149232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FC93-9AAF-4BBB-B277-F1CF3358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3F4F-55C2-49CF-8880-1645B059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699F-4EFE-4F4B-BA51-3A9C12A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A1C7-4370-4B72-A950-7680D243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FA99-7FC6-4636-A12A-8A8EA2C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23CB3-EB0E-46EE-9A88-7DBC0A0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3663-EE28-4710-AB3B-1056929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6AF9-996A-4FB6-A41B-38D26162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0C578-FC6C-4A30-A4F3-3324BB00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8339-2B15-401D-93D4-F681EC8C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ED8-098E-408B-8C4A-FA069CF9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9409-D19C-4F80-BF0B-CB55BE49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6C50-D903-4843-A1F1-F1A4CAE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85AB-BA7A-49B0-B5BC-D89DF58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6737-719D-447C-8AF2-5A052BF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3B76-DD9A-4903-9B2F-49FF142C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D869-4FFF-46C1-B6E4-1E6820D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69D7-CA37-4473-9E26-1802C03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F5A1F-B816-4CBD-BBEB-41D2CAA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8C44-7803-466A-B7B7-2F8034D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828E-70ED-4EAC-9BAF-FB804B6A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DFC-EE5E-4EFC-9F9A-1DDF9DD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AF5A5-184A-492B-8621-8188CAAA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AEC-D3D5-4657-BA67-6EB31C3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072-0DE9-4612-A91F-D73CAF41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826-F3AC-4C0A-82B2-732253F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74E-0B98-46D7-A2C6-DC04F96EBA07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08FC-BAF8-4C1E-9F30-F7991D47C84F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3C4-066F-415F-AE6F-B8D8E126E96E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D6B5-E9A1-4054-96B3-023AE1AD4B9B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328E-78E2-4BB2-9F54-38072F5F1B8D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4E73-574E-4403-BCDD-C2BC8982902F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4D79-7006-4396-A802-A0BA433DC457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B207-B24B-4829-9347-1D211B0CACCA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FC04-F305-4D75-9BDF-D7DF3359101A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47A-E2F5-4A20-9E72-52512579034E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ОБОТОТЕХН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В  НАЧАЛЬНОЙ ШКОЛ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50920" y="2690640"/>
            <a:ext cx="87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работ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айкина Татьяна Владимир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Кузнецк, 20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1873080" y="1090440"/>
            <a:ext cx="5540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3" descr="3.jpg"/>
          <p:cNvPicPr/>
          <p:nvPr/>
        </p:nvPicPr>
        <p:blipFill>
          <a:blip r:embed="rId1"/>
          <a:stretch/>
        </p:blipFill>
        <p:spPr>
          <a:xfrm>
            <a:off x="6329520" y="3424320"/>
            <a:ext cx="2743200" cy="1647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6e94"/>
                </a:solidFill>
                <a:latin typeface="Arial Black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Скругленный прямоугольник 8"/>
          <p:cNvSpPr/>
          <p:nvPr/>
        </p:nvSpPr>
        <p:spPr>
          <a:xfrm>
            <a:off x="3500280" y="2857680"/>
            <a:ext cx="2143440" cy="271440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3">
                <a:moveTo>
                  <a:pt x="3600" y="0"/>
                </a:moveTo>
                <a:arcTo wR="3600" hR="3600" stAng="16200000" swAng="-5400000"/>
                <a:lnTo>
                  <a:pt x="0" y="23753"/>
                </a:lnTo>
                <a:arcTo wR="3600" hR="3600" stAng="10800000" swAng="-5400000"/>
                <a:lnTo>
                  <a:pt x="18000" y="27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ff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ая аудитория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5 л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57184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11" descr="1.jpg"/>
          <p:cNvPicPr/>
          <p:nvPr/>
        </p:nvPicPr>
        <p:blipFill>
          <a:blip r:embed="rId2"/>
          <a:stretch/>
        </p:blipFill>
        <p:spPr>
          <a:xfrm>
            <a:off x="2928960" y="957240"/>
            <a:ext cx="322416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9"/>
          <p:cNvSpPr/>
          <p:nvPr/>
        </p:nvSpPr>
        <p:spPr>
          <a:xfrm>
            <a:off x="5857920" y="92880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91a7c4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часо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лока по 24 занят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Рисунок 12" descr="2.jpg"/>
          <p:cNvPicPr/>
          <p:nvPr/>
        </p:nvPicPr>
        <p:blipFill>
          <a:blip r:embed="rId3"/>
          <a:stretch/>
        </p:blipFill>
        <p:spPr>
          <a:xfrm>
            <a:off x="0" y="362412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7"/>
          <p:cNvSpPr/>
          <p:nvPr/>
        </p:nvSpPr>
        <p:spPr>
          <a:xfrm>
            <a:off x="357120" y="107172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П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o We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13880" y="285480"/>
            <a:ext cx="76647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LEGO Education WeDo дает возможность ученикам собрать и запрограммировать простые модели LEGO через приложения в компьютере. В наборе 158 элементов, в том числе двигатель, датчики движения и положения, а также LEGO USB Hub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коммутатор). Совмещая программно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и учебное пособие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полнить 12 тематически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Рисунок 5" descr="http://cache.lego.com/r/education/-/media/LEGO%20Education/Home/Images/Products/WeDo/ts.20100922T104512.9580_713x380_MainProduct.png"/>
          <p:cNvPicPr/>
          <p:nvPr/>
        </p:nvPicPr>
        <p:blipFill>
          <a:blip r:embed="rId1"/>
          <a:stretch/>
        </p:blipFill>
        <p:spPr>
          <a:xfrm>
            <a:off x="4788000" y="2133720"/>
            <a:ext cx="5284800" cy="2811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6e94"/>
                </a:solidFill>
                <a:latin typeface="Arial Black"/>
              </a:rPr>
              <a:t>ТЕМАТИЧЕСКИЙ БЛОК "ЖИВОТНЫЙ МИР"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57160" y="907560"/>
            <a:ext cx="75218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птич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а-барабанщ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лодный аллигатор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хающая 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ычащий лев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кротит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йка-барабанщик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гушка-квакуш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ар-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лшебные рыб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утята и пингвинят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и на карус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062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</a:t>
            </a: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ДЕТЕЙ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57160" y="1125000"/>
            <a:ext cx="457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, навыков конструирования и программирова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мышления и изобрета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лкой моторики, внимания, аккурат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мотивации к созданию собственных разработок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иск качественного результата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ответственности при командной работе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ы и состязания в результате в целях к мотивации к обучению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630760" y="1484280"/>
            <a:ext cx="3114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 ВЗРОСЛЫ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56800" y="1125000"/>
            <a:ext cx="79628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едставление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роботах в России и мире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жпредметных связях робототехники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мках ФГОС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перспективах развития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тодических основах проектной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основных направлений образования робототехники и основных международных робототехнических стандартах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ланировать виды 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основными понятиями образовательной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материальными знаниями: название деталей, моделей роботов, основами программирования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907920"/>
            <a:ext cx="9144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Конструктор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ГО помогает детям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воплощать в жизн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 идеи, строить 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нтазировать, увлечённо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я и видя конечны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7" descr="G:\Camera\IMG_20141111_113151.jpg"/>
          <p:cNvPicPr/>
          <p:nvPr/>
        </p:nvPicPr>
        <p:blipFill>
          <a:blip r:embed="rId1"/>
          <a:stretch/>
        </p:blipFill>
        <p:spPr>
          <a:xfrm>
            <a:off x="5508720" y="260280"/>
            <a:ext cx="3432240" cy="4576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"/>
          <a:stretch/>
        </p:blipFill>
        <p:spPr>
          <a:xfrm>
            <a:off x="7502400" y="5229360"/>
            <a:ext cx="142740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1" descr=""/>
          <p:cNvPicPr/>
          <p:nvPr/>
        </p:nvPicPr>
        <p:blipFill>
          <a:blip r:embed="rId1"/>
          <a:stretch/>
        </p:blipFill>
        <p:spPr>
          <a:xfrm>
            <a:off x="723960" y="606600"/>
            <a:ext cx="7043760" cy="447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КТО ТАКОЙ РОБОТ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856800"/>
            <a:ext cx="75218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15107" r="0" b="0"/>
          <a:stretch/>
        </p:blipFill>
        <p:spPr>
          <a:xfrm>
            <a:off x="1363680" y="914400"/>
            <a:ext cx="6438960" cy="409896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РОБОТЫ ЖИВОТНЫ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1117440" y="1125360"/>
            <a:ext cx="3365640" cy="1872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rcRect l="12986" t="0" r="19290" b="0"/>
          <a:stretch/>
        </p:blipFill>
        <p:spPr>
          <a:xfrm>
            <a:off x="5402160" y="914400"/>
            <a:ext cx="31132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4"/>
          <a:srcRect l="12706" t="0" r="23621" b="8164"/>
          <a:stretch/>
        </p:blipFill>
        <p:spPr>
          <a:xfrm>
            <a:off x="684360" y="3208320"/>
            <a:ext cx="345600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5"/>
          <a:srcRect l="1962" t="22000" r="1962" b="12201"/>
          <a:stretch/>
        </p:blipFill>
        <p:spPr>
          <a:xfrm>
            <a:off x="4583160" y="3500280"/>
            <a:ext cx="4201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116000" y="7920"/>
            <a:ext cx="6699240" cy="502452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АЛГОРИТМ РАБО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57160" y="907920"/>
            <a:ext cx="752184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rcRect l="0" t="0" r="0" b="13250"/>
          <a:stretch/>
        </p:blipFill>
        <p:spPr>
          <a:xfrm>
            <a:off x="1751040" y="907920"/>
            <a:ext cx="4802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2286000"/>
            <a:ext cx="7715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ИНТЕРГ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57160" y="1699920"/>
            <a:ext cx="75218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4" descr="C:\Users\KOTYA\Desktop\1394011927_0848.1000x800.jpeg"/>
          <p:cNvPicPr/>
          <p:nvPr/>
        </p:nvPicPr>
        <p:blipFill>
          <a:blip r:embed="rId1"/>
          <a:stretch/>
        </p:blipFill>
        <p:spPr>
          <a:xfrm>
            <a:off x="4572000" y="1484280"/>
            <a:ext cx="4321080" cy="32194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26920" y="260280"/>
            <a:ext cx="75218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нный конструктор позволяет детям работать в качестве юных исследователей, инженеров, математиков. Ребята собирают и программируют действующие модели, а затем используют их для выполнения задач, по сути являющихся упражнениями из образовательных областей: социально-коммуникативные, познавательное и речевое развитие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3:21:41Z</dcterms:created>
  <dc:creator>1</dc:creator>
  <dc:description/>
  <dc:language>en-US</dc:language>
  <cp:lastModifiedBy>Пользователь</cp:lastModifiedBy>
  <dcterms:modified xsi:type="dcterms:W3CDTF">2020-08-25T11:35:40Z</dcterms:modified>
  <cp:revision>60</cp:revision>
  <dc:subject/>
  <dc:title>Реализация общеинтеллектуального направления на внеурочных занятиях с помощью конструктора  lego education wedo</dc:title>
</cp:coreProperties>
</file>